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3B0-2EC9-4236-8DBB-C0C1E473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0C6-122E-4892-96FD-38DFC56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EE1-066A-4B74-B8C1-D39FFD55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02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360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B12-8E83-45F5-958D-099DD66E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22D-34CB-4F4A-ACBB-73CA3756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C30-45C7-4CE9-BB52-7BF1D74A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612-41C2-4966-85FE-2A645BFB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9E0-55AB-4B52-AA8D-60DA7E6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9000"/>
            <a:ext cx="8232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487-DD0C-48C8-9276-E8A94EE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69A-1807-48E4-8EEA-714FAF1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753-7088-4E98-8416-E5E168E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7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3600"/>
            <a:ext cx="82324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5ED-CEBB-4913-8F93-9395878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57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31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31EB-AB7F-4E0A-BBBC-765AF58D2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asic Motor Contro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renzo Nata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/icub/head/rpc: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/icub/head/state: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/icub/head/command: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eft-Right Arrow 13"/>
          <p:cNvSpPr/>
          <p:nvPr/>
        </p:nvSpPr>
        <p:spPr>
          <a:xfrm>
            <a:off x="1468440" y="2797200"/>
            <a:ext cx="536400" cy="266760"/>
          </a:xfrm>
          <a:prstGeom prst="leftRight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eft-Right Arrow 14"/>
          <p:cNvSpPr/>
          <p:nvPr/>
        </p:nvSpPr>
        <p:spPr>
          <a:xfrm>
            <a:off x="6367320" y="2763720"/>
            <a:ext cx="534960" cy="25884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 16"/>
          <p:cNvSpPr/>
          <p:nvPr/>
        </p:nvSpPr>
        <p:spPr>
          <a:xfrm>
            <a:off x="3583080" y="1811160"/>
            <a:ext cx="1334880" cy="9860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ARP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eft-Right Arrow 17"/>
          <p:cNvSpPr/>
          <p:nvPr/>
        </p:nvSpPr>
        <p:spPr>
          <a:xfrm>
            <a:off x="3338640" y="2763720"/>
            <a:ext cx="1847880" cy="2667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382920" y="2739960"/>
            <a:ext cx="1812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23"/>
          <p:cNvSpPr/>
          <p:nvPr/>
        </p:nvSpPr>
        <p:spPr>
          <a:xfrm>
            <a:off x="474840" y="2168640"/>
            <a:ext cx="842760" cy="1350720"/>
          </a:xfrm>
          <a:custGeom>
            <a:avLst/>
            <a:gdLst>
              <a:gd name="textAreaLeft" fmla="*/ 41040 w 842760"/>
              <a:gd name="textAreaRight" fmla="*/ 801720 w 842760"/>
              <a:gd name="textAreaTop" fmla="*/ 41040 h 1350720"/>
              <a:gd name="textAreaBottom" fmla="*/ 1309680 h 1350720"/>
            </a:gdLst>
            <a:ahLst/>
            <a:rect l="textAreaLeft" t="textAreaTop" r="textAreaRight" b="textAreaBottom"/>
            <a:pathLst>
              <a:path w="21600" h="34613">
                <a:moveTo>
                  <a:pt x="3600" y="0"/>
                </a:moveTo>
                <a:arcTo wR="3600" hR="3600" stAng="16200000" swAng="-5400000"/>
                <a:lnTo>
                  <a:pt x="0" y="31013"/>
                </a:lnTo>
                <a:arcTo wR="3600" hR="3600" stAng="10800000" swAng="-5400000"/>
                <a:lnTo>
                  <a:pt x="18000" y="34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36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 code (remot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25"/>
          <p:cNvSpPr/>
          <p:nvPr/>
        </p:nvSpPr>
        <p:spPr>
          <a:xfrm>
            <a:off x="7370640" y="2171880"/>
            <a:ext cx="843120" cy="1349280"/>
          </a:xfrm>
          <a:custGeom>
            <a:avLst/>
            <a:gdLst>
              <a:gd name="textAreaLeft" fmla="*/ 41040 w 843120"/>
              <a:gd name="textAreaRight" fmla="*/ 802080 w 843120"/>
              <a:gd name="textAreaTop" fmla="*/ 41040 h 1349280"/>
              <a:gd name="textAreaBottom" fmla="*/ 1308240 h 1349280"/>
            </a:gdLst>
            <a:ahLst/>
            <a:rect l="textAreaLeft" t="textAreaTop" r="textAreaRight" b="textAreaBottom"/>
            <a:pathLst>
              <a:path w="21600" h="34562">
                <a:moveTo>
                  <a:pt x="3600" y="0"/>
                </a:moveTo>
                <a:arcTo wR="3600" hR="3600" stAng="16200000" swAng="-5400000"/>
                <a:lnTo>
                  <a:pt x="0" y="30962"/>
                </a:lnTo>
                <a:arcTo wR="3600" hR="3600" stAng="10800000" swAng="-5400000"/>
                <a:lnTo>
                  <a:pt x="18000" y="34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bot/Simu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ounded Rectangle 26" descr=""/>
          <p:cNvPicPr/>
          <p:nvPr/>
        </p:nvPicPr>
        <p:blipFill>
          <a:blip r:embed="rId1"/>
          <a:stretch/>
        </p:blipFill>
        <p:spPr>
          <a:xfrm>
            <a:off x="6950160" y="2157480"/>
            <a:ext cx="345960" cy="1377720"/>
          </a:xfrm>
          <a:prstGeom prst="rect">
            <a:avLst/>
          </a:prstGeom>
          <a:ln w="0">
            <a:noFill/>
          </a:ln>
        </p:spPr>
      </p:pic>
      <p:pic>
        <p:nvPicPr>
          <p:cNvPr id="53" name="Rounded Rectangle 27" descr=""/>
          <p:cNvPicPr/>
          <p:nvPr/>
        </p:nvPicPr>
        <p:blipFill>
          <a:blip r:embed="rId2"/>
          <a:stretch/>
        </p:blipFill>
        <p:spPr>
          <a:xfrm>
            <a:off x="2000160" y="2157480"/>
            <a:ext cx="346320" cy="137160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28"/>
          <p:cNvSpPr/>
          <p:nvPr/>
        </p:nvSpPr>
        <p:spPr>
          <a:xfrm>
            <a:off x="2411280" y="2168640"/>
            <a:ext cx="844560" cy="1350720"/>
          </a:xfrm>
          <a:custGeom>
            <a:avLst/>
            <a:gdLst>
              <a:gd name="textAreaLeft" fmla="*/ 41040 w 844560"/>
              <a:gd name="textAreaRight" fmla="*/ 803520 w 844560"/>
              <a:gd name="textAreaTop" fmla="*/ 41040 h 1350720"/>
              <a:gd name="textAreaBottom" fmla="*/ 1309680 h 1350720"/>
            </a:gdLst>
            <a:ahLst/>
            <a:rect l="textAreaLeft" t="textAreaTop" r="textAreaRight" b="textAreaBottom"/>
            <a:pathLst>
              <a:path w="21600" h="34540">
                <a:moveTo>
                  <a:pt x="3600" y="0"/>
                </a:moveTo>
                <a:arcTo wR="3600" hR="3600" stAng="16200000" swAng="-5400000"/>
                <a:lnTo>
                  <a:pt x="0" y="30940"/>
                </a:lnTo>
                <a:arcTo wR="3600" hR="3600" stAng="10800000" swAng="-5400000"/>
                <a:lnTo>
                  <a:pt x="18000" y="34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ent Network Wr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29"/>
          <p:cNvSpPr/>
          <p:nvPr/>
        </p:nvSpPr>
        <p:spPr>
          <a:xfrm>
            <a:off x="5446800" y="2184480"/>
            <a:ext cx="842760" cy="1350720"/>
          </a:xfrm>
          <a:custGeom>
            <a:avLst/>
            <a:gdLst>
              <a:gd name="textAreaLeft" fmla="*/ 41040 w 842760"/>
              <a:gd name="textAreaRight" fmla="*/ 801720 w 842760"/>
              <a:gd name="textAreaTop" fmla="*/ 41040 h 1350720"/>
              <a:gd name="textAreaBottom" fmla="*/ 1309680 h 1350720"/>
            </a:gdLst>
            <a:ahLst/>
            <a:rect l="textAreaLeft" t="textAreaTop" r="textAreaRight" b="textAreaBottom"/>
            <a:pathLst>
              <a:path w="21600" h="34613">
                <a:moveTo>
                  <a:pt x="3600" y="0"/>
                </a:moveTo>
                <a:arcTo wR="3600" hR="3600" stAng="16200000" swAng="-5400000"/>
                <a:lnTo>
                  <a:pt x="0" y="31013"/>
                </a:lnTo>
                <a:arcTo wR="3600" hR="3600" stAng="10800000" swAng="-5400000"/>
                <a:lnTo>
                  <a:pt x="18000" y="34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rver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r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0" y="2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5241960" y="1639800"/>
            <a:ext cx="3160800" cy="2270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1346760" y="1608120"/>
            <a:ext cx="2407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961200" y="355608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osition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locity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nco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5437440" y="176688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_control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183200" y="331488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pos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vel 1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en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3615480" y="3051000"/>
            <a:ext cx="70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 i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2447640" y="3641760"/>
            <a:ext cx="232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client/left_arm/rpc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client/left_arm/state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client/left_arm/command: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264280" y="4019400"/>
            <a:ext cx="257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iCubSim/left_arm/rpc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iCubSim/left_arm/state: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iCubSim/left_arm/command: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049720" y="1792440"/>
            <a:ext cx="3022560" cy="31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365880" y="2873520"/>
            <a:ext cx="1627200" cy="1714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962680" y="1830240"/>
            <a:ext cx="129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462720" y="2881440"/>
            <a:ext cx="147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mote_controlbo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135520" y="2387520"/>
            <a:ext cx="1683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n(param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3"/>
          <p:cNvCxnSpPr/>
          <p:nvPr/>
        </p:nvCxnSpPr>
        <p:spPr>
          <a:xfrm>
            <a:off x="4064040" y="2558520"/>
            <a:ext cx="154368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72" name="Straight Arrow Connector 14"/>
          <p:cNvCxnSpPr/>
          <p:nvPr/>
        </p:nvCxnSpPr>
        <p:spPr>
          <a:xfrm>
            <a:off x="4041360" y="4601880"/>
            <a:ext cx="154548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73" name="TextBox 15"/>
          <p:cNvSpPr/>
          <p:nvPr/>
        </p:nvSpPr>
        <p:spPr>
          <a:xfrm>
            <a:off x="2044800" y="4376880"/>
            <a:ext cx="90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17"/>
          <p:cNvCxnSpPr/>
          <p:nvPr/>
        </p:nvCxnSpPr>
        <p:spPr>
          <a:xfrm flipH="1">
            <a:off x="4025520" y="2987280"/>
            <a:ext cx="156744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75" name="TextBox 21"/>
          <p:cNvSpPr/>
          <p:nvPr/>
        </p:nvSpPr>
        <p:spPr>
          <a:xfrm>
            <a:off x="1952280" y="280980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1952280" y="322272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(interface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6368760" y="3135240"/>
            <a:ext cx="135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Mov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Encoder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35"/>
          <p:cNvCxnSpPr/>
          <p:nvPr/>
        </p:nvCxnSpPr>
        <p:spPr>
          <a:xfrm>
            <a:off x="3859200" y="3858840"/>
            <a:ext cx="236448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79" name="TextBox 36"/>
          <p:cNvSpPr/>
          <p:nvPr/>
        </p:nvSpPr>
        <p:spPr>
          <a:xfrm>
            <a:off x="1950840" y="362268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1950840" y="39877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interface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38"/>
          <p:cNvCxnSpPr/>
          <p:nvPr/>
        </p:nvCxnSpPr>
        <p:spPr>
          <a:xfrm>
            <a:off x="3871800" y="4130280"/>
            <a:ext cx="236304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82" name="Rectangle 39"/>
          <p:cNvSpPr/>
          <p:nvPr/>
        </p:nvSpPr>
        <p:spPr>
          <a:xfrm>
            <a:off x="1828800" y="1862280"/>
            <a:ext cx="227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1793880" y="1793880"/>
            <a:ext cx="2433600" cy="331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52"/>
          <p:cNvCxnSpPr/>
          <p:nvPr/>
        </p:nvCxnSpPr>
        <p:spPr>
          <a:xfrm flipH="1">
            <a:off x="4034880" y="3447720"/>
            <a:ext cx="1533960" cy="10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9000"/>
            <a:ext cx="823248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or Control Tutori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5760" y="1600200"/>
            <a:ext cx="8232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otor Control Interfa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olyDriv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traight Connector 121"/>
          <p:cNvSpPr/>
          <p:nvPr/>
        </p:nvSpPr>
        <p:spPr>
          <a:xfrm>
            <a:off x="4275000" y="573552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12"/>
          <p:cNvSpPr/>
          <p:nvPr/>
        </p:nvSpPr>
        <p:spPr>
          <a:xfrm>
            <a:off x="4257720" y="4361040"/>
            <a:ext cx="209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7"/>
          <p:cNvSpPr/>
          <p:nvPr/>
        </p:nvSpPr>
        <p:spPr>
          <a:xfrm>
            <a:off x="4294080" y="5607000"/>
            <a:ext cx="30024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866960" y="925560"/>
            <a:ext cx="2801880" cy="198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11"/>
          <p:cNvCxnSpPr/>
          <p:nvPr/>
        </p:nvCxnSpPr>
        <p:spPr>
          <a:xfrm>
            <a:off x="1866600" y="925200"/>
            <a:ext cx="1053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Straight Arrow Connector 12"/>
          <p:cNvCxnSpPr/>
          <p:nvPr/>
        </p:nvCxnSpPr>
        <p:spPr>
          <a:xfrm>
            <a:off x="1874520" y="925560"/>
            <a:ext cx="1080" cy="66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3" name="Group 50"/>
          <p:cNvGrpSpPr/>
          <p:nvPr/>
        </p:nvGrpSpPr>
        <p:grpSpPr>
          <a:xfrm>
            <a:off x="3178080" y="1794960"/>
            <a:ext cx="1053000" cy="668880"/>
            <a:chOff x="3178080" y="1794960"/>
            <a:chExt cx="1053000" cy="668880"/>
          </a:xfrm>
        </p:grpSpPr>
        <p:cxnSp>
          <p:nvCxnSpPr>
            <p:cNvPr id="94" name="Straight Arrow Connector 15"/>
            <p:cNvCxnSpPr/>
            <p:nvPr/>
          </p:nvCxnSpPr>
          <p:spPr>
            <a:xfrm>
              <a:off x="3178080" y="1794960"/>
              <a:ext cx="10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Straight Arrow Connector 16"/>
            <p:cNvCxnSpPr/>
            <p:nvPr/>
          </p:nvCxnSpPr>
          <p:spPr>
            <a:xfrm>
              <a:off x="3184920" y="1794960"/>
              <a:ext cx="1080" cy="66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6" name="TextBox 19"/>
          <p:cNvSpPr/>
          <p:nvPr/>
        </p:nvSpPr>
        <p:spPr>
          <a:xfrm>
            <a:off x="1870920" y="530280"/>
            <a:ext cx="488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,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4012920" y="3628800"/>
            <a:ext cx="3113640" cy="2125080"/>
            <a:chOff x="4012920" y="3628800"/>
            <a:chExt cx="3113640" cy="2125080"/>
          </a:xfrm>
        </p:grpSpPr>
        <p:sp>
          <p:nvSpPr>
            <p:cNvPr id="98" name="Straight Connector 76"/>
            <p:cNvSpPr/>
            <p:nvPr/>
          </p:nvSpPr>
          <p:spPr>
            <a:xfrm>
              <a:off x="4402080" y="4403160"/>
              <a:ext cx="41400" cy="135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09"/>
            <p:cNvGrpSpPr/>
            <p:nvPr/>
          </p:nvGrpSpPr>
          <p:grpSpPr>
            <a:xfrm>
              <a:off x="4012920" y="3628800"/>
              <a:ext cx="3113640" cy="861120"/>
              <a:chOff x="4012920" y="3628800"/>
              <a:chExt cx="3113640" cy="861120"/>
            </a:xfrm>
          </p:grpSpPr>
          <p:sp>
            <p:nvSpPr>
              <p:cNvPr id="100" name="Straight Connector 70"/>
              <p:cNvSpPr/>
              <p:nvPr/>
            </p:nvSpPr>
            <p:spPr>
              <a:xfrm flipV="1">
                <a:off x="4072680" y="3628800"/>
                <a:ext cx="3053880" cy="76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73"/>
              <p:cNvSpPr/>
              <p:nvPr/>
            </p:nvSpPr>
            <p:spPr>
              <a:xfrm rot="20750400">
                <a:off x="4023000" y="4232520"/>
                <a:ext cx="716040" cy="172440"/>
              </a:xfrm>
              <a:prstGeom prst="rect">
                <a:avLst/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74"/>
            <p:cNvSpPr/>
            <p:nvPr/>
          </p:nvSpPr>
          <p:spPr>
            <a:xfrm rot="21498000">
              <a:off x="4331880" y="5350320"/>
              <a:ext cx="203040" cy="39888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rc 118"/>
          <p:cNvSpPr/>
          <p:nvPr/>
        </p:nvSpPr>
        <p:spPr>
          <a:xfrm rot="2313600">
            <a:off x="4797360" y="4052880"/>
            <a:ext cx="436680" cy="388800"/>
          </a:xfrm>
          <a:custGeom>
            <a:avLst/>
            <a:gdLst/>
            <a:ahLst/>
            <a:rect l="l" t="t" r="r" b="b"/>
            <a:pathLst>
              <a:path stroke="0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  <a:lnTo>
                  <a:pt x="218282" y="194469"/>
                </a:lnTo>
                <a:cubicBezTo>
                  <a:pt x="218282" y="129646"/>
                  <a:pt x="218281" y="64823"/>
                  <a:pt x="218281" y="0"/>
                </a:cubicBezTo>
                <a:close/>
              </a:path>
              <a:path fill="none" w="436563" h="388937">
                <a:moveTo>
                  <a:pt x="218281" y="0"/>
                </a:moveTo>
                <a:cubicBezTo>
                  <a:pt x="338835" y="0"/>
                  <a:pt x="436563" y="87067"/>
                  <a:pt x="436563" y="1944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9"/>
          <p:cNvSpPr/>
          <p:nvPr/>
        </p:nvSpPr>
        <p:spPr>
          <a:xfrm>
            <a:off x="5194800" y="4060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Multiply 120"/>
          <p:cNvSpPr/>
          <p:nvPr/>
        </p:nvSpPr>
        <p:spPr>
          <a:xfrm>
            <a:off x="6581880" y="3232080"/>
            <a:ext cx="326880" cy="327240"/>
          </a:xfrm>
          <a:custGeom>
            <a:avLst/>
            <a:gdLst/>
            <a:ahLst/>
            <a:rect l="l" t="t" r="r" b="b"/>
            <a:pathLst>
              <a:path w="327025" h="327025">
                <a:moveTo>
                  <a:pt x="51349" y="105737"/>
                </a:moveTo>
                <a:lnTo>
                  <a:pt x="105737" y="51349"/>
                </a:lnTo>
                <a:lnTo>
                  <a:pt x="163513" y="109124"/>
                </a:lnTo>
                <a:lnTo>
                  <a:pt x="221288" y="51349"/>
                </a:lnTo>
                <a:lnTo>
                  <a:pt x="275676" y="105737"/>
                </a:lnTo>
                <a:lnTo>
                  <a:pt x="217901" y="163513"/>
                </a:lnTo>
                <a:lnTo>
                  <a:pt x="275676" y="221288"/>
                </a:lnTo>
                <a:lnTo>
                  <a:pt x="221288" y="275676"/>
                </a:lnTo>
                <a:lnTo>
                  <a:pt x="163513" y="217901"/>
                </a:lnTo>
                <a:lnTo>
                  <a:pt x="105737" y="275676"/>
                </a:lnTo>
                <a:lnTo>
                  <a:pt x="51349" y="221288"/>
                </a:lnTo>
                <a:lnTo>
                  <a:pt x="109124" y="163513"/>
                </a:lnTo>
                <a:lnTo>
                  <a:pt x="51349" y="105737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22"/>
          <p:cNvSpPr/>
          <p:nvPr/>
        </p:nvSpPr>
        <p:spPr>
          <a:xfrm rot="5400000">
            <a:off x="3683520" y="4882320"/>
            <a:ext cx="1439640" cy="1562040"/>
          </a:xfrm>
          <a:custGeom>
            <a:avLst/>
            <a:gdLst/>
            <a:ahLst/>
            <a:rect l="l" t="t" r="r" b="b"/>
            <a:pathLst>
              <a:path stroke="0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  <a:lnTo>
                  <a:pt x="719932" y="781050"/>
                </a:lnTo>
                <a:lnTo>
                  <a:pt x="3614" y="702887"/>
                </a:lnTo>
                <a:close/>
              </a:path>
              <a:path fill="none" w="1439863" h="1562100">
                <a:moveTo>
                  <a:pt x="3614" y="702887"/>
                </a:moveTo>
                <a:cubicBezTo>
                  <a:pt x="43647" y="271070"/>
                  <a:pt x="400489" y="-42531"/>
                  <a:pt x="798156" y="4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3"/>
          <p:cNvSpPr/>
          <p:nvPr/>
        </p:nvSpPr>
        <p:spPr>
          <a:xfrm>
            <a:off x="4977360" y="5018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842760" y="3673440"/>
            <a:ext cx="2291040" cy="2000160"/>
            <a:chOff x="842760" y="3673440"/>
            <a:chExt cx="2291040" cy="2000160"/>
          </a:xfrm>
        </p:grpSpPr>
        <p:sp>
          <p:nvSpPr>
            <p:cNvPr id="109" name="Straight Connector 23"/>
            <p:cNvSpPr/>
            <p:nvPr/>
          </p:nvSpPr>
          <p:spPr>
            <a:xfrm flipV="1">
              <a:off x="987480" y="3773160"/>
              <a:ext cx="169848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25"/>
            <p:cNvSpPr/>
            <p:nvPr/>
          </p:nvSpPr>
          <p:spPr>
            <a:xfrm flipH="1" flipV="1">
              <a:off x="2685600" y="3773160"/>
              <a:ext cx="2322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1"/>
            <p:cNvSpPr/>
            <p:nvPr/>
          </p:nvSpPr>
          <p:spPr>
            <a:xfrm>
              <a:off x="987480" y="5442120"/>
              <a:ext cx="193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 rot="2613000">
              <a:off x="1010880" y="505944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5"/>
            <p:cNvSpPr/>
            <p:nvPr/>
          </p:nvSpPr>
          <p:spPr>
            <a:xfrm rot="21257400">
              <a:off x="2786040" y="5035320"/>
              <a:ext cx="191880" cy="565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38"/>
            <p:cNvSpPr/>
            <p:nvPr/>
          </p:nvSpPr>
          <p:spPr>
            <a:xfrm flipH="1">
              <a:off x="1890360" y="3773520"/>
              <a:ext cx="795600" cy="16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rc 40"/>
            <p:cNvSpPr/>
            <p:nvPr/>
          </p:nvSpPr>
          <p:spPr>
            <a:xfrm>
              <a:off x="1836720" y="5210280"/>
              <a:ext cx="419040" cy="463320"/>
            </a:xfrm>
            <a:custGeom>
              <a:avLst/>
              <a:gdLst/>
              <a:ahLst/>
              <a:rect l="l" t="t" r="r" b="b"/>
              <a:pathLst>
                <a:path stroke="0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  <a:lnTo>
                    <a:pt x="209519" y="231875"/>
                  </a:lnTo>
                  <a:lnTo>
                    <a:pt x="209519" y="0"/>
                  </a:lnTo>
                  <a:close/>
                </a:path>
                <a:path fill="none" w="419038" h="463750">
                  <a:moveTo>
                    <a:pt x="209519" y="0"/>
                  </a:moveTo>
                  <a:cubicBezTo>
                    <a:pt x="325233" y="0"/>
                    <a:pt x="419038" y="103814"/>
                    <a:pt x="419038" y="2318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41"/>
            <p:cNvSpPr/>
            <p:nvPr/>
          </p:nvSpPr>
          <p:spPr>
            <a:xfrm rot="9700200">
              <a:off x="2428560" y="3780720"/>
              <a:ext cx="488880" cy="393480"/>
            </a:xfrm>
            <a:custGeom>
              <a:avLst/>
              <a:gdLst/>
              <a:ahLst/>
              <a:rect l="l" t="t" r="r" b="b"/>
              <a:pathLst>
                <a:path stroke="0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  <a:lnTo>
                    <a:pt x="244439" y="196935"/>
                  </a:lnTo>
                  <a:lnTo>
                    <a:pt x="244439" y="0"/>
                  </a:lnTo>
                  <a:close/>
                </a:path>
                <a:path fill="none" w="488878" h="393870">
                  <a:moveTo>
                    <a:pt x="244439" y="0"/>
                  </a:moveTo>
                  <a:cubicBezTo>
                    <a:pt x="379439" y="0"/>
                    <a:pt x="488878" y="88171"/>
                    <a:pt x="488878" y="1969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2"/>
            <p:cNvSpPr/>
            <p:nvPr/>
          </p:nvSpPr>
          <p:spPr>
            <a:xfrm>
              <a:off x="2107440" y="5065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>
              <a:off x="2405880" y="4235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Multiply 46"/>
            <p:cNvSpPr/>
            <p:nvPr/>
          </p:nvSpPr>
          <p:spPr>
            <a:xfrm>
              <a:off x="2806920" y="3673440"/>
              <a:ext cx="326880" cy="325440"/>
            </a:xfrm>
            <a:custGeom>
              <a:avLst/>
              <a:gdLst/>
              <a:ahLst/>
              <a:rect l="l" t="t" r="r" b="b"/>
              <a:pathLst>
                <a:path w="326977" h="325578">
                  <a:moveTo>
                    <a:pt x="51516" y="105327"/>
                  </a:moveTo>
                  <a:lnTo>
                    <a:pt x="105547" y="51064"/>
                  </a:lnTo>
                  <a:lnTo>
                    <a:pt x="163489" y="108757"/>
                  </a:lnTo>
                  <a:lnTo>
                    <a:pt x="221430" y="51064"/>
                  </a:lnTo>
                  <a:lnTo>
                    <a:pt x="275461" y="105327"/>
                  </a:lnTo>
                  <a:lnTo>
                    <a:pt x="217752" y="162789"/>
                  </a:lnTo>
                  <a:lnTo>
                    <a:pt x="275461" y="220251"/>
                  </a:lnTo>
                  <a:lnTo>
                    <a:pt x="221430" y="274514"/>
                  </a:lnTo>
                  <a:lnTo>
                    <a:pt x="163489" y="216821"/>
                  </a:lnTo>
                  <a:lnTo>
                    <a:pt x="105547" y="274514"/>
                  </a:lnTo>
                  <a:lnTo>
                    <a:pt x="51516" y="220251"/>
                  </a:lnTo>
                  <a:lnTo>
                    <a:pt x="109225" y="162789"/>
                  </a:lnTo>
                  <a:lnTo>
                    <a:pt x="51516" y="105327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4"/>
            <p:cNvSpPr/>
            <p:nvPr/>
          </p:nvSpPr>
          <p:spPr>
            <a:xfrm>
              <a:off x="1758240" y="5341320"/>
              <a:ext cx="284760" cy="24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125"/>
          <p:cNvSpPr/>
          <p:nvPr/>
        </p:nvSpPr>
        <p:spPr>
          <a:xfrm>
            <a:off x="5812200" y="1346040"/>
            <a:ext cx="16804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4]=+/- k*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3]=+/- k*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0]=+/- k*q[3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[2]=+/- k*q[4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2"/>
          <p:cNvSpPr/>
          <p:nvPr/>
        </p:nvSpPr>
        <p:spPr>
          <a:xfrm rot="21359400">
            <a:off x="4091040" y="5270040"/>
            <a:ext cx="662040" cy="260280"/>
          </a:xfrm>
          <a:custGeom>
            <a:avLst/>
            <a:gdLst/>
            <a:ahLst/>
            <a:rect l="l" t="t" r="r" b="b"/>
            <a:pathLst>
              <a:path stroke="0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  <a:lnTo>
                  <a:pt x="330994" y="130175"/>
                </a:lnTo>
                <a:lnTo>
                  <a:pt x="217514" y="7890"/>
                </a:lnTo>
                <a:close/>
              </a:path>
              <a:path fill="none" w="661987" h="260350">
                <a:moveTo>
                  <a:pt x="217514" y="7890"/>
                </a:moveTo>
                <a:cubicBezTo>
                  <a:pt x="288096" y="-2241"/>
                  <a:pt x="365343" y="-2626"/>
                  <a:pt x="436555" y="6798"/>
                </a:cubicBezTo>
                <a:cubicBezTo>
                  <a:pt x="705914" y="42445"/>
                  <a:pt x="743319" y="186229"/>
                  <a:pt x="497895" y="242589"/>
                </a:cubicBezTo>
                <a:cubicBezTo>
                  <a:pt x="427620" y="258727"/>
                  <a:pt x="344692" y="264118"/>
                  <a:pt x="264950" y="257732"/>
                </a:cubicBezTo>
                <a:cubicBezTo>
                  <a:pt x="9015" y="237236"/>
                  <a:pt x="-88553" y="113691"/>
                  <a:pt x="92823" y="397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9"/>
          <p:cNvSpPr/>
          <p:nvPr/>
        </p:nvSpPr>
        <p:spPr>
          <a:xfrm>
            <a:off x="3861360" y="507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Multiply 44"/>
          <p:cNvSpPr/>
          <p:nvPr/>
        </p:nvSpPr>
        <p:spPr>
          <a:xfrm>
            <a:off x="3705120" y="1224000"/>
            <a:ext cx="327240" cy="325440"/>
          </a:xfrm>
          <a:custGeom>
            <a:avLst/>
            <a:gdLst/>
            <a:ahLst/>
            <a:rect l="l" t="t" r="r" b="b"/>
            <a:pathLst>
              <a:path w="327025" h="325437">
                <a:moveTo>
                  <a:pt x="51547" y="105290"/>
                </a:moveTo>
                <a:lnTo>
                  <a:pt x="105539" y="51034"/>
                </a:lnTo>
                <a:lnTo>
                  <a:pt x="163513" y="108726"/>
                </a:lnTo>
                <a:lnTo>
                  <a:pt x="221486" y="51034"/>
                </a:lnTo>
                <a:lnTo>
                  <a:pt x="275478" y="105290"/>
                </a:lnTo>
                <a:lnTo>
                  <a:pt x="217769" y="162719"/>
                </a:lnTo>
                <a:lnTo>
                  <a:pt x="275478" y="220147"/>
                </a:lnTo>
                <a:lnTo>
                  <a:pt x="221486" y="274403"/>
                </a:lnTo>
                <a:lnTo>
                  <a:pt x="163513" y="216711"/>
                </a:lnTo>
                <a:lnTo>
                  <a:pt x="105539" y="274403"/>
                </a:lnTo>
                <a:lnTo>
                  <a:pt x="51547" y="220147"/>
                </a:lnTo>
                <a:lnTo>
                  <a:pt x="109256" y="162719"/>
                </a:lnTo>
                <a:lnTo>
                  <a:pt x="51547" y="10529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563760" y="103356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icubSim/cam/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932440" y="83988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/l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89040" y="3678120"/>
            <a:ext cx="24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objectDetector/image/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92280" y="42768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objectDetector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87240" y="320508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objectDetector/image/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787360" y="3284640"/>
            <a:ext cx="245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/viewer/segmen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569880" y="13716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icubSim/cam/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16"/>
          <p:cNvCxnSpPr>
            <a:stCxn id="131" idx="3"/>
            <a:endCxn id="126" idx="1"/>
          </p:cNvCxnSpPr>
          <p:nvPr/>
        </p:nvCxnSpPr>
        <p:spPr>
          <a:xfrm flipV="1">
            <a:off x="2280960" y="1023480"/>
            <a:ext cx="3653640" cy="5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Straight Arrow Connector 18"/>
          <p:cNvCxnSpPr>
            <a:stCxn id="131" idx="3"/>
          </p:cNvCxnSpPr>
          <p:nvPr/>
        </p:nvCxnSpPr>
        <p:spPr>
          <a:xfrm>
            <a:off x="2280960" y="1541520"/>
            <a:ext cx="386280" cy="17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Straight Arrow Connector 20"/>
          <p:cNvCxnSpPr>
            <a:stCxn id="127" idx="3"/>
          </p:cNvCxnSpPr>
          <p:nvPr/>
        </p:nvCxnSpPr>
        <p:spPr>
          <a:xfrm flipV="1">
            <a:off x="3165480" y="3499920"/>
            <a:ext cx="257400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33"/>
          <p:cNvSpPr/>
          <p:nvPr/>
        </p:nvSpPr>
        <p:spPr>
          <a:xfrm>
            <a:off x="268200" y="725400"/>
            <a:ext cx="2395800" cy="13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4"/>
          <p:cNvSpPr/>
          <p:nvPr/>
        </p:nvSpPr>
        <p:spPr>
          <a:xfrm>
            <a:off x="276840" y="316080"/>
            <a:ext cx="1159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457200" y="3027240"/>
            <a:ext cx="3373560" cy="2318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5827680" y="3100320"/>
            <a:ext cx="247824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5"/>
          <p:cNvSpPr/>
          <p:nvPr/>
        </p:nvSpPr>
        <p:spPr>
          <a:xfrm>
            <a:off x="5848200" y="662040"/>
            <a:ext cx="228600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5818320" y="2743200"/>
            <a:ext cx="113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arpvie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5818320" y="228600"/>
            <a:ext cx="113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arpvie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87000" y="2590920"/>
            <a:ext cx="182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_detec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5348160" y="3909960"/>
            <a:ext cx="1200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arp re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5486400" y="4214880"/>
            <a:ext cx="2478240" cy="77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623920" y="4443480"/>
            <a:ext cx="86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targ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20"/>
          <p:cNvCxnSpPr>
            <a:stCxn id="128" idx="3"/>
            <a:endCxn id="145" idx="1"/>
          </p:cNvCxnSpPr>
          <p:nvPr/>
        </p:nvCxnSpPr>
        <p:spPr>
          <a:xfrm>
            <a:off x="2798280" y="4446720"/>
            <a:ext cx="284076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Straight Arrow Connector 4"/>
          <p:cNvCxnSpPr/>
          <p:nvPr/>
        </p:nvCxnSpPr>
        <p:spPr>
          <a:xfrm>
            <a:off x="2759040" y="4572000"/>
            <a:ext cx="266472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43"/>
          <p:cNvSpPr/>
          <p:nvPr/>
        </p:nvSpPr>
        <p:spPr>
          <a:xfrm>
            <a:off x="5465880" y="5627520"/>
            <a:ext cx="2477880" cy="773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450760" y="5265720"/>
            <a:ext cx="1589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ad_track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</dc:creator>
  <dc:description/>
  <dc:language>en-US</dc:language>
  <cp:lastModifiedBy>nat</cp:lastModifiedBy>
  <dcterms:modified xsi:type="dcterms:W3CDTF">2012-07-20T10:23:23Z</dcterms:modified>
  <cp:revision>17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